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118-5AC3-4FD8-B63B-18EEAAD8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3870-E6DD-4F6C-85FB-60AED3E5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435-19FE-4208-8297-75A96724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072-B683-49F4-8D5B-403870FB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6E2-C312-41BA-BF15-3347F29E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5EB-60D0-4A4C-9A27-CDF6FD95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9DA-7105-48A1-8CCB-7777708F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162-ADEF-4A7B-AF37-1557F2B1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CE7-8DDD-4994-92C9-A4E19453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F90-45D5-486F-810D-2A12F81F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1A8-DBF9-4997-B9DC-F10BE6E3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A52-C149-4FB7-8C20-2BBEECEF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66C3-AC74-4E7A-A77F-7F3F7C790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533520" y="2602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SMI</a:t>
            </a: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ILAN0, 15 SETTEMBRE 20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1042920" y="3241800"/>
            <a:ext cx="704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QUO COMPENSO 20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Segnaposto contenuto 12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147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341360"/>
          <a:ext cx="8229600" cy="4896000"/>
        </p:xfrm>
        <a:graphic>
          <a:graphicData uri="http://schemas.openxmlformats.org/drawingml/2006/table">
            <a:tbl>
              <a:tblPr/>
              <a:tblGrid>
                <a:gridCol w="1509840"/>
                <a:gridCol w="1681200"/>
                <a:gridCol w="554040"/>
                <a:gridCol w="677520"/>
                <a:gridCol w="676440"/>
                <a:gridCol w="677880"/>
                <a:gridCol w="804960"/>
                <a:gridCol w="839520"/>
                <a:gridCol w="808200"/>
              </a:tblGrid>
              <a:tr h="4348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.M. 2025 - C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1468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46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za D.M. 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w/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za costo 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332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 80 min  700 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46512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 90 min 800 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46368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R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W 80 min 700 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66204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AUDIO R / R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 DA 80 min 700 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52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8040">
                <a:tc gridSpan="5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zione equo compenso. Prodotti a fine vita, hardware inesist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052640"/>
          <a:ext cx="8642160" cy="5329080"/>
        </p:xfrm>
        <a:graphic>
          <a:graphicData uri="http://schemas.openxmlformats.org/drawingml/2006/table">
            <a:tbl>
              <a:tblPr/>
              <a:tblGrid>
                <a:gridCol w="1776240"/>
                <a:gridCol w="1800360"/>
                <a:gridCol w="527040"/>
                <a:gridCol w="693720"/>
                <a:gridCol w="692280"/>
                <a:gridCol w="693720"/>
                <a:gridCol w="798480"/>
                <a:gridCol w="830160"/>
                <a:gridCol w="830160"/>
              </a:tblGrid>
              <a:tr h="3934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.M. 2025 - DV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za D.M. 20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w/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za costo prodot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0492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+ R/R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4.7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492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- R/RW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4.7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456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Dual Lay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+R 8.5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636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-R 8.5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492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R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RAM 4.7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492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RAM 9.4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456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BLU-RAY R / R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BLU-RAY 25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636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BLU-RAY DL 50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17520"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VD BLU-RAY 100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17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0636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zione equo compenso. Prodotti a fine vita, hardware inesist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8000" y="1197000"/>
          <a:ext cx="8785080" cy="5256360"/>
        </p:xfrm>
        <a:graphic>
          <a:graphicData uri="http://schemas.openxmlformats.org/drawingml/2006/table">
            <a:tbl>
              <a:tblPr/>
              <a:tblGrid>
                <a:gridCol w="2554200"/>
                <a:gridCol w="773280"/>
                <a:gridCol w="652320"/>
                <a:gridCol w="650880"/>
                <a:gridCol w="652320"/>
                <a:gridCol w="776520"/>
                <a:gridCol w="868320"/>
                <a:gridCol w="895320"/>
                <a:gridCol w="961920"/>
              </a:tblGrid>
              <a:tr h="3268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.M. 2025 - FLASH CAR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a g)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M.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za D.M. 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w/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za costo 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3804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e trasferibili o removibi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804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840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948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804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8400"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4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3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53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538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o principalmente non usato per copia privat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5416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inuzione compenso per GB per evitare aumenti considerevoli e distorsioni di merca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541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 Eur 0,03 a GB tetto massimo Eur 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7440" y="1268280"/>
          <a:ext cx="8747280" cy="5256360"/>
        </p:xfrm>
        <a:graphic>
          <a:graphicData uri="http://schemas.openxmlformats.org/drawingml/2006/table">
            <a:tbl>
              <a:tblPr/>
              <a:tblGrid>
                <a:gridCol w="2181240"/>
                <a:gridCol w="806400"/>
                <a:gridCol w="679680"/>
                <a:gridCol w="679320"/>
                <a:gridCol w="679320"/>
                <a:gridCol w="808200"/>
                <a:gridCol w="954000"/>
                <a:gridCol w="932040"/>
                <a:gridCol w="1027080"/>
              </a:tblGrid>
              <a:tr h="2890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.M. 2025 - US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a h)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M.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za D.M. 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w/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za costo 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98440">
                <a:tc row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avette USB/USB Sti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9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36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2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23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2392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o principalmente per uso professiona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23920">
                <a:tc gridSpan="8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inuzione compenso per GB per evitare aumenti considerevoli e distorsioni di merca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2212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sh Eur 0,05 a GB tetto massimo Eur 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052640"/>
          <a:ext cx="8569080" cy="5545080"/>
        </p:xfrm>
        <a:graphic>
          <a:graphicData uri="http://schemas.openxmlformats.org/drawingml/2006/table">
            <a:tbl>
              <a:tblPr/>
              <a:tblGrid>
                <a:gridCol w="1806480"/>
                <a:gridCol w="773280"/>
                <a:gridCol w="774360"/>
                <a:gridCol w="776520"/>
                <a:gridCol w="774720"/>
                <a:gridCol w="776160"/>
                <a:gridCol w="890640"/>
                <a:gridCol w="895320"/>
                <a:gridCol w="1101600"/>
              </a:tblGrid>
              <a:tr h="32364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.M. 2025 - H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a i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M.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 D.M.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za D.M. 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w/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za costo prodo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Disk Dr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15012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ing S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50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0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 G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333360"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24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50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50920">
                <a:tc gridSpan="9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o principalmente per uso professionale. Hard Disk interni da escludere. SSD uso professionale da esclud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gridSpan="8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inuzione compenso per GB per evitare aumenti considerevoli e distorsioni di mercat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5092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Disk 0,005 a GB tetto massimo Eur 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197000"/>
          <a:ext cx="8642160" cy="5400720"/>
        </p:xfrm>
        <a:graphic>
          <a:graphicData uri="http://schemas.openxmlformats.org/drawingml/2006/table">
            <a:tbl>
              <a:tblPr/>
              <a:tblGrid>
                <a:gridCol w="3058920"/>
                <a:gridCol w="1065240"/>
                <a:gridCol w="587520"/>
                <a:gridCol w="587160"/>
                <a:gridCol w="836640"/>
                <a:gridCol w="835200"/>
                <a:gridCol w="857160"/>
                <a:gridCol w="814320"/>
              </a:tblGrid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D.M. 20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E PRODO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M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M. 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za D.M. 20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w/2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za costo prodot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D-MEMORIA IN SMARTPHONE-TABL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8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a 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16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32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4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64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128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256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512 G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1 T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O 2 T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7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TRE 2 T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09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a 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87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ta As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2536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i a rapido decremento prezzo di vend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  <a:tr h="223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rtphone tetto massimo Eur 6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S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1454040" y="222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07:52:36Z</dcterms:created>
  <dc:creator>Pissetti, Mario</dc:creator>
  <dc:description/>
  <dc:language>en-US</dc:language>
  <cp:lastModifiedBy>Francesco Coletta</cp:lastModifiedBy>
  <cp:lastPrinted>2021-07-06T10:11:16Z</cp:lastPrinted>
  <dcterms:modified xsi:type="dcterms:W3CDTF">2025-09-16T06:30:17Z</dcterms:modified>
  <cp:revision>58</cp:revision>
  <dc:subject/>
  <dc:title>ASMI</dc:title>
</cp:coreProperties>
</file>